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3138120" y="8997840"/>
            <a:ext cx="87696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DB91046-ACE8-4B35-81C3-16BDA4770AF1}" type="slidenum">
              <a:rPr b="0" lang="en-US" sz="12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225080" y="717480"/>
            <a:ext cx="4700520" cy="352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125360" y="4543200"/>
            <a:ext cx="4808880" cy="4251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8600" bIns="48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4000" y="714240"/>
            <a:ext cx="4705200" cy="35308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53640" y="5062320"/>
            <a:ext cx="5241960" cy="36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o around the room and have everyone explain who they are and what their objectives are.  Record the objectives on flip chart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0800" y="6566040"/>
            <a:ext cx="230724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2006 by 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169880" y="6567480"/>
            <a:ext cx="8730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March 2006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621504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Managing TSP Teams - Module 1 - </a:t>
            </a:r>
            <a:fld id="{A376D78B-A26B-479A-9DF6-A5E2C55A714E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7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6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1058760" y="4967280"/>
            <a:ext cx="7313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06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4168080" y="6567480"/>
            <a:ext cx="8730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March 2006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9388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8" name="Picture 8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9"/>
          <p:cNvSpPr/>
          <p:nvPr/>
        </p:nvSpPr>
        <p:spPr>
          <a:xfrm>
            <a:off x="621504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Managing TSP Teams - Module 1 - </a:t>
            </a:r>
            <a:fld id="{719EB201-AA13-40C0-ABF7-93AC55D7C746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1028880" y="2050920"/>
            <a:ext cx="29145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966960" y="1893960"/>
            <a:ext cx="7751520" cy="23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200" spc="-1" strike="noStrike">
                <a:solidFill>
                  <a:srgbClr val="39536b"/>
                </a:solidFill>
                <a:latin typeface="Arial Narrow"/>
              </a:rPr>
              <a:t>Managing TSP Teams</a:t>
            </a: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4500" spc="-1" strike="noStrike">
                <a:solidFill>
                  <a:srgbClr val="39536b"/>
                </a:solidFill>
                <a:latin typeface="Arial Narrow"/>
              </a:rPr>
              <a:t>Module 5: Managing with Facts and Data</a:t>
            </a:r>
            <a:endParaRPr b="0" lang="en-US" sz="45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ask Hour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028520" y="1709280"/>
            <a:ext cx="737388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ask hours are the hours that the team spends on planned task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ask hours do not include many unplanned but necessary task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meetings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ourse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ask coordination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dvice and assistanc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handling mail, supplies, expenses, etc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eams can estimate task hours, but planning the other activities is guesswork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When measured, tracked, and managed, task hours can often be improved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026"/>
          <p:cNvSpPr/>
          <p:nvPr/>
        </p:nvSpPr>
        <p:spPr>
          <a:xfrm>
            <a:off x="1035000" y="2763720"/>
            <a:ext cx="7628040" cy="363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29" name="Picture 1027" descr=""/>
          <p:cNvPicPr/>
          <p:nvPr/>
        </p:nvPicPr>
        <p:blipFill>
          <a:blip r:embed="rId1"/>
          <a:stretch/>
        </p:blipFill>
        <p:spPr>
          <a:xfrm>
            <a:off x="1244520" y="2725560"/>
            <a:ext cx="6596280" cy="39229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Improving Task Hour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17720" y="1722240"/>
            <a:ext cx="7743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verage task hours per developer per week were improved from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9.6 hours to 15.1 hours through quiet time, process documentation, more efficient meetings, etc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2" name="Rectangle 1030"/>
          <p:cNvSpPr/>
          <p:nvPr/>
        </p:nvSpPr>
        <p:spPr>
          <a:xfrm>
            <a:off x="1047600" y="5918040"/>
            <a:ext cx="7628040" cy="59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3" name="AutoShape 1031"/>
          <p:cNvSpPr/>
          <p:nvPr/>
        </p:nvSpPr>
        <p:spPr>
          <a:xfrm>
            <a:off x="7851600" y="3587760"/>
            <a:ext cx="257400" cy="855720"/>
          </a:xfrm>
          <a:prstGeom prst="upArrow">
            <a:avLst>
              <a:gd name="adj1" fmla="val 50000"/>
              <a:gd name="adj2" fmla="val 83112"/>
            </a:avLst>
          </a:prstGeom>
          <a:solidFill>
            <a:srgbClr val="87abb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4" name="Text Box 1032"/>
          <p:cNvSpPr/>
          <p:nvPr/>
        </p:nvSpPr>
        <p:spPr>
          <a:xfrm>
            <a:off x="7595280" y="3073320"/>
            <a:ext cx="7956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+57%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5" name="Text Box 1033"/>
          <p:cNvSpPr/>
          <p:nvPr/>
        </p:nvSpPr>
        <p:spPr>
          <a:xfrm>
            <a:off x="1006560" y="6151680"/>
            <a:ext cx="18669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Bodoni Bd BT"/>
              </a:rPr>
              <a:t>Source: Allied Signal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anaging Task Hour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017360" y="1707840"/>
            <a:ext cx="77310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ask hours can only be improved by the develope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do so, they need management suppor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mproving weekly task hours directly improves team productivit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ask hour improvement costs little or noth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arned Valu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017360" y="1707840"/>
            <a:ext cx="76374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task’s earned value (EV) is the percentage of the total estimated project hours that the task is planned to tak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V values each task, regardless of typ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V is earned when the task is complet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re is no partial credi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EV credit is the same, regardless of the time the task actually tak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V provides a precise way to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easure project statu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imate project completion dat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82360" y="839520"/>
            <a:ext cx="7419960" cy="5634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arned Value Example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917280" y="1671480"/>
            <a:ext cx="7691400" cy="4507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10-person team estimates that the first development cycle of a job will take 1,000 task hou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’s top-down plan breaks the work into 5 phas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ask hour estimates for these first-cycle phases are as follow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quirements development: 165 hou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igh-level design (HLD):  150 hou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tailed design (DLD):  220 hou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mplementation:  250 hou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sting:  215 hou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82360" y="852120"/>
            <a:ext cx="741996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arned Value Example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905040" y="1757160"/>
            <a:ext cx="7410240" cy="45068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lanned value (PV) is the value in the pla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value is earned (EV) only on task comple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946080" y="1782720"/>
            <a:ext cx="7597800" cy="229428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93680"/>
                <a:tab algn="l" pos="576360"/>
                <a:tab algn="l" pos="801720"/>
                <a:tab algn="l" pos="2168640"/>
                <a:tab algn="r" pos="2631960"/>
                <a:tab algn="l" pos="3033720"/>
                <a:tab algn="r" pos="3772080"/>
                <a:tab algn="l" pos="4462560"/>
                <a:tab algn="dec" pos="4913280"/>
                <a:tab algn="l" pos="5715000"/>
                <a:tab algn="dec" pos="629136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e Cycle 1 Task Plan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93680"/>
                <a:tab algn="l" pos="576360"/>
                <a:tab algn="l" pos="801720"/>
                <a:tab algn="l" pos="2168640"/>
                <a:tab algn="r" pos="2631960"/>
                <a:tab algn="l" pos="3033720"/>
                <a:tab algn="r" pos="3772080"/>
                <a:tab algn="l" pos="4462560"/>
                <a:tab algn="dec" pos="4913280"/>
                <a:tab algn="l" pos="5715000"/>
                <a:tab algn="dec" pos="629136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576360"/>
                <a:tab algn="l" pos="801720"/>
                <a:tab algn="l" pos="2168640"/>
                <a:tab algn="r" pos="2631960"/>
                <a:tab algn="l" pos="3033720"/>
                <a:tab algn="r" pos="3772080"/>
                <a:tab algn="l" pos="4462560"/>
                <a:tab algn="dec" pos="4913280"/>
                <a:tab algn="l" pos="5715000"/>
                <a:tab algn="dec" pos="629136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ask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   Cycle 1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Task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Cumulative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    PV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Cumulativ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576360"/>
                <a:tab algn="l" pos="801720"/>
                <a:tab algn="l" pos="2168640"/>
                <a:tab algn="r" pos="2631960"/>
                <a:tab algn="l" pos="3033720"/>
                <a:tab algn="r" pos="3772080"/>
                <a:tab algn="l" pos="4462560"/>
                <a:tab algn="dec" pos="4913280"/>
                <a:tab algn="l" pos="5715000"/>
                <a:tab algn="dec" pos="629136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No.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asks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Hours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ask Hours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      PV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576360"/>
                <a:tab algn="l" pos="801720"/>
                <a:tab algn="l" pos="2168640"/>
                <a:tab algn="r" pos="2631960"/>
                <a:tab algn="l" pos="3033720"/>
                <a:tab algn="r" pos="3772080"/>
                <a:tab algn="l" pos="4462560"/>
                <a:tab algn="dec" pos="4913280"/>
                <a:tab algn="l" pos="5715000"/>
                <a:tab algn="dec" pos="629136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576360"/>
                <a:tab algn="l" pos="801720"/>
                <a:tab algn="l" pos="2168640"/>
                <a:tab algn="r" pos="2631960"/>
                <a:tab algn="l" pos="3033720"/>
                <a:tab algn="r" pos="3772080"/>
                <a:tab algn="l" pos="4462560"/>
                <a:tab algn="dec" pos="4913280"/>
                <a:tab algn="l" pos="5715000"/>
                <a:tab algn="dec" pos="629136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Requirements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165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165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16.5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16.5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576360"/>
                <a:tab algn="l" pos="801720"/>
                <a:tab algn="l" pos="2168640"/>
                <a:tab algn="r" pos="2631960"/>
                <a:tab algn="l" pos="3033720"/>
                <a:tab algn="r" pos="3772080"/>
                <a:tab algn="l" pos="4462560"/>
                <a:tab algn="dec" pos="4913280"/>
                <a:tab algn="l" pos="5715000"/>
                <a:tab algn="dec" pos="629136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HLD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150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315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15.0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31.5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576360"/>
                <a:tab algn="l" pos="801720"/>
                <a:tab algn="l" pos="2168640"/>
                <a:tab algn="r" pos="2631960"/>
                <a:tab algn="l" pos="3033720"/>
                <a:tab algn="r" pos="3772080"/>
                <a:tab algn="l" pos="4462560"/>
                <a:tab algn="dec" pos="4913280"/>
                <a:tab algn="l" pos="5715000"/>
                <a:tab algn="dec" pos="629136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3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DLD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220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535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2.0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53.5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576360"/>
                <a:tab algn="l" pos="801720"/>
                <a:tab algn="l" pos="2168640"/>
                <a:tab algn="r" pos="2631960"/>
                <a:tab algn="l" pos="3033720"/>
                <a:tab algn="r" pos="3772080"/>
                <a:tab algn="l" pos="4462560"/>
                <a:tab algn="dec" pos="4913280"/>
                <a:tab algn="l" pos="5715000"/>
                <a:tab algn="dec" pos="629136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4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Implementation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250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785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25.0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    78.5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576360"/>
                <a:tab algn="l" pos="801720"/>
                <a:tab algn="l" pos="2168640"/>
                <a:tab algn="r" pos="2631960"/>
                <a:tab algn="l" pos="3033720"/>
                <a:tab algn="r" pos="3772080"/>
                <a:tab algn="l" pos="4462560"/>
                <a:tab algn="dec" pos="4913280"/>
                <a:tab algn="l" pos="5715000"/>
                <a:tab algn="dec" pos="629136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5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esting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15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1,000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 21.5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100.0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82360" y="839520"/>
            <a:ext cx="7419960" cy="5634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arned Value Example -3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1039680" y="2025720"/>
            <a:ext cx="7837560" cy="367164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93680"/>
                <a:tab algn="l" pos="1028880"/>
                <a:tab algn="l" pos="1220760"/>
                <a:tab algn="dec" pos="1542960"/>
                <a:tab algn="r" pos="3195720"/>
                <a:tab algn="l" pos="4243320"/>
                <a:tab algn="l" pos="4500720"/>
                <a:tab algn="dec" pos="488628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The Cycle 1 Schedule Plan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93680"/>
                <a:tab algn="l" pos="1028880"/>
                <a:tab algn="l" pos="1220760"/>
                <a:tab algn="dec" pos="1542960"/>
                <a:tab algn="r" pos="3195720"/>
                <a:tab algn="l" pos="4243320"/>
                <a:tab algn="l" pos="4500720"/>
                <a:tab algn="dec" pos="488628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1028880"/>
                <a:tab algn="l" pos="1220760"/>
                <a:tab algn="dec" pos="1542960"/>
                <a:tab algn="r" pos="3195720"/>
                <a:tab algn="l" pos="4243320"/>
                <a:tab algn="l" pos="4500720"/>
                <a:tab algn="dec" pos="488628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Week 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Plan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       Cumulative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  PV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Cumulativ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1028880"/>
                <a:tab algn="l" pos="1220760"/>
                <a:tab algn="dec" pos="1542960"/>
                <a:tab algn="r" pos="3195720"/>
                <a:tab algn="l" pos="4243320"/>
                <a:tab algn="l" pos="4500720"/>
                <a:tab algn="dec" pos="488628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No.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Hours     Plan 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Hours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     PV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1028880"/>
                <a:tab algn="l" pos="1220760"/>
                <a:tab algn="dec" pos="1542960"/>
                <a:tab algn="r" pos="3195720"/>
                <a:tab algn="l" pos="4243320"/>
                <a:tab algn="l" pos="4500720"/>
                <a:tab algn="dec" pos="488628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1028880"/>
                <a:tab algn="l" pos="1220760"/>
                <a:tab algn="dec" pos="1542960"/>
                <a:tab algn="r" pos="3195720"/>
                <a:tab algn="l" pos="4243320"/>
                <a:tab algn="l" pos="4500720"/>
                <a:tab algn="dec" pos="488628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160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160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0.0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      0.0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1028880"/>
                <a:tab algn="l" pos="1220760"/>
                <a:tab algn="dec" pos="1542960"/>
                <a:tab algn="r" pos="3195720"/>
                <a:tab algn="l" pos="4243320"/>
                <a:tab algn="l" pos="4500720"/>
                <a:tab algn="dec" pos="488628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160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320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31.5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    31.5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1028880"/>
                <a:tab algn="l" pos="1220760"/>
                <a:tab algn="dec" pos="1542960"/>
                <a:tab algn="r" pos="3195720"/>
                <a:tab algn="l" pos="4243320"/>
                <a:tab algn="l" pos="4500720"/>
                <a:tab algn="dec" pos="488628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160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480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  0.0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    31.5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1028880"/>
                <a:tab algn="l" pos="1220760"/>
                <a:tab algn="dec" pos="1542960"/>
                <a:tab algn="r" pos="3195720"/>
                <a:tab algn="l" pos="4243320"/>
                <a:tab algn="l" pos="4500720"/>
                <a:tab algn="dec" pos="488628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160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640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22.0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    53.5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1028880"/>
                <a:tab algn="l" pos="1220760"/>
                <a:tab algn="dec" pos="1542960"/>
                <a:tab algn="r" pos="3195720"/>
                <a:tab algn="l" pos="4243320"/>
                <a:tab algn="l" pos="4500720"/>
                <a:tab algn="dec" pos="488628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160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800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25.0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    78.5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1028880"/>
                <a:tab algn="l" pos="1220760"/>
                <a:tab algn="dec" pos="1542960"/>
                <a:tab algn="r" pos="3195720"/>
                <a:tab algn="l" pos="4243320"/>
                <a:tab algn="l" pos="4500720"/>
                <a:tab algn="dec" pos="488628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160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960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  0.0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    78.5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1028880"/>
                <a:tab algn="l" pos="1220760"/>
                <a:tab algn="dec" pos="1542960"/>
                <a:tab algn="r" pos="3195720"/>
                <a:tab algn="l" pos="4243320"/>
                <a:tab algn="l" pos="4500720"/>
                <a:tab algn="dec" pos="488628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160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1,120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21.5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  100.0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1028880"/>
                <a:tab algn="l" pos="1220760"/>
                <a:tab algn="dec" pos="1542960"/>
                <a:tab algn="r" pos="3195720"/>
                <a:tab algn="l" pos="4243320"/>
                <a:tab algn="l" pos="4500720"/>
                <a:tab algn="dec" pos="488628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160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1,280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  0.0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  100.0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82360" y="852120"/>
            <a:ext cx="741996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roject Tracking Example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929880" y="1671480"/>
            <a:ext cx="7410600" cy="4507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fter four weeks, the work has taken longer than expect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finished the requirements in 218 hours instead of the planned 165 hou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igh-level design took 186 hours instead of 150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detailed design is partially complet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members are confident they will finish it in a day or two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is the estimate for project completion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82360" y="839520"/>
            <a:ext cx="7419960" cy="5634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roject Tracking Example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33120" y="1671480"/>
            <a:ext cx="7410600" cy="4507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s tasks are completed, their EV is entered for the week earned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When is the project likely to finish?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1022400" y="2638440"/>
            <a:ext cx="7099200" cy="295092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93680"/>
                <a:tab algn="l" pos="965160"/>
                <a:tab algn="l" pos="1351080"/>
                <a:tab algn="l" pos="3151080"/>
                <a:tab algn="dec" pos="3535200"/>
                <a:tab algn="l" pos="4371840"/>
                <a:tab algn="dec" pos="4800600"/>
                <a:tab algn="l" pos="6043680"/>
                <a:tab algn="dec" pos="629136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              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chedule Planning Templat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93680"/>
                <a:tab algn="l" pos="965160"/>
                <a:tab algn="l" pos="1351080"/>
                <a:tab algn="l" pos="3151080"/>
                <a:tab algn="dec" pos="3535200"/>
                <a:tab algn="l" pos="4371840"/>
                <a:tab algn="dec" pos="4800600"/>
                <a:tab algn="l" pos="6043680"/>
                <a:tab algn="dec" pos="629136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965160"/>
                <a:tab algn="l" pos="1351080"/>
                <a:tab algn="l" pos="3151080"/>
                <a:tab algn="dec" pos="3535200"/>
                <a:tab algn="l" pos="4371840"/>
                <a:tab algn="dec" pos="4800600"/>
                <a:tab algn="l" pos="6043680"/>
                <a:tab algn="dec" pos="629136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Week     Plan        Actual         Cumulative      Cumulative       Cumulativ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965160"/>
                <a:tab algn="l" pos="1351080"/>
                <a:tab algn="l" pos="3151080"/>
                <a:tab algn="dec" pos="3535200"/>
                <a:tab algn="l" pos="4371840"/>
                <a:tab algn="dec" pos="4800600"/>
                <a:tab algn="l" pos="6043680"/>
                <a:tab algn="dec" pos="629136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No.     Hours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     Hours        Actual Hours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    PV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 EV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965160"/>
                <a:tab algn="l" pos="1351080"/>
                <a:tab algn="l" pos="3151080"/>
                <a:tab algn="dec" pos="3535200"/>
                <a:tab algn="l" pos="4371840"/>
                <a:tab algn="dec" pos="4800600"/>
                <a:tab algn="l" pos="6043680"/>
                <a:tab algn="dec" pos="629136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965160"/>
                <a:tab algn="l" pos="1351080"/>
                <a:tab algn="l" pos="3151080"/>
                <a:tab algn="dec" pos="3535200"/>
                <a:tab algn="l" pos="4371840"/>
                <a:tab algn="dec" pos="4800600"/>
                <a:tab algn="l" pos="6043680"/>
                <a:tab algn="dec" pos="629136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1         160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       126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126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0.0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0.0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965160"/>
                <a:tab algn="l" pos="1351080"/>
                <a:tab algn="l" pos="3151080"/>
                <a:tab algn="dec" pos="3535200"/>
                <a:tab algn="l" pos="4371840"/>
                <a:tab algn="dec" pos="4800600"/>
                <a:tab algn="l" pos="6043680"/>
                <a:tab algn="dec" pos="629136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         160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       148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74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31.5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16.5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965160"/>
                <a:tab algn="l" pos="1351080"/>
                <a:tab algn="l" pos="3151080"/>
                <a:tab algn="dec" pos="3535200"/>
                <a:tab algn="l" pos="4371840"/>
                <a:tab algn="dec" pos="4800600"/>
                <a:tab algn="l" pos="6043680"/>
                <a:tab algn="dec" pos="629136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3         160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       156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430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31.5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31.5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965160"/>
                <a:tab algn="l" pos="1351080"/>
                <a:tab algn="l" pos="3151080"/>
                <a:tab algn="dec" pos="3535200"/>
                <a:tab algn="l" pos="4371840"/>
                <a:tab algn="dec" pos="4800600"/>
                <a:tab algn="l" pos="6043680"/>
                <a:tab algn="dec" pos="629136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4         160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       163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593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53.5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31.5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965160"/>
                <a:tab algn="l" pos="1351080"/>
                <a:tab algn="l" pos="3151080"/>
                <a:tab algn="dec" pos="3535200"/>
                <a:tab algn="l" pos="4371840"/>
                <a:tab algn="dec" pos="4800600"/>
                <a:tab algn="l" pos="6043680"/>
                <a:tab algn="dec" pos="629136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5         160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78.5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965160"/>
                <a:tab algn="l" pos="1351080"/>
                <a:tab algn="l" pos="3151080"/>
                <a:tab algn="dec" pos="3535200"/>
                <a:tab algn="l" pos="4371840"/>
                <a:tab algn="dec" pos="4800600"/>
                <a:tab algn="l" pos="6043680"/>
                <a:tab algn="dec" pos="629136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6         160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78.5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965160"/>
                <a:tab algn="l" pos="1351080"/>
                <a:tab algn="l" pos="3151080"/>
                <a:tab algn="dec" pos="3535200"/>
                <a:tab algn="l" pos="4371840"/>
                <a:tab algn="dec" pos="4800600"/>
                <a:tab algn="l" pos="6043680"/>
                <a:tab algn="dec" pos="629136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7         160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100.0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965160"/>
                <a:tab algn="l" pos="1351080"/>
                <a:tab algn="l" pos="3151080"/>
                <a:tab algn="dec" pos="3535200"/>
                <a:tab algn="l" pos="4371840"/>
                <a:tab algn="dec" pos="4800600"/>
                <a:tab algn="l" pos="6043680"/>
                <a:tab algn="dec" pos="629136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8         160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100.0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82360" y="839520"/>
            <a:ext cx="7419960" cy="5634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roject Tracking Example -3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929880" y="1671480"/>
            <a:ext cx="7410600" cy="4507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gets no credit for partially completed wor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developers have earned 31.5 EV in 4 weeks, or 7.875 EV per wee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re are 100-31.5 = 68.5 EV to go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 7.8754 per week, that is 8.7 more week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dded to the 4 weeks spent so far, that is 12.7 week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 the current rate of progress, the team will be 5.7 weeks lat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000" spc="-1" strike="noStrike">
              <a:solidFill>
                <a:srgbClr val="39536b"/>
              </a:solidFill>
              <a:latin typeface="Arial"/>
              <a:ea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             </a:t>
            </a:r>
            <a:br>
              <a:rPr sz="1800"/>
            </a:b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99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94960" y="826920"/>
            <a:ext cx="7419960" cy="5637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roject Tracking Considerations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942840" y="1657080"/>
            <a:ext cx="7956720" cy="45068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ith more detailed plans, status can be more precisely measur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ith more precise status information, completion projections are more accurat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ore accurate completion projections will help you manage the busine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82360" y="839520"/>
            <a:ext cx="7419960" cy="5634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Business Implications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42840" y="1657080"/>
            <a:ext cx="7756560" cy="45068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ith PSP training, developers know how to plan, schedule, and track their wor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SP teams use these PSP-learned methods to make detailed pla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asks are no more than 10 task hours each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ask time is recorded dail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V is measured weekl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can tell project status to within 10 task hou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SP teams regularly report their statu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Using Facts and Data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017720" y="1707840"/>
            <a:ext cx="7410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ject schedules slip a day at a tim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you cannot precisely measure project status, you will not know where projects stan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ithout such knowledge, you cannot address schedule problems in time to fix the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ith the TSP, you ca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osely monitor team performanc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ddress problems in tim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sistently meet schedul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Gathering Data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017720" y="1707840"/>
            <a:ext cx="7410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precise project management, teams need precise project dat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se data must be gathered by the develope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do so, they must b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perly train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itably l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qualified TSP coach can help teams and team leaders gather and use their TSP data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ata Sensitivity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017720" y="1707840"/>
            <a:ext cx="7410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ersonal data are sensitiv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ductivity varies among individual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eople have off day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istakes are always embarrass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the developers feel that their personal data could be used against them, they will not gather that data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nly use aggregate team data to manage TSP projec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management respects the developers’ data, data privacy will not be an issu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Hold Regular Project Reviews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017720" y="1707840"/>
            <a:ext cx="7410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eriodic project reviews help you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derstand project statu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dentify impending proble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pose poor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cognize superior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gular reviews also help teams b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howing continued management interes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inforcing your desire for quality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intaining the team’s motiv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dentifying areas where the team needs help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Reward Quality Work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017720" y="1707840"/>
            <a:ext cx="7410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 organizations reward the firefighters, they have lots of fir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less management recognizes and rewards quality work, the developers and teams who quietly do such work wil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oon become invisibl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 passed over in promo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et discouraged and leav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arch for and reward those who do the highest quality wor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ssages to Rememb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017720" y="1722240"/>
            <a:ext cx="7410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get the best performance, teams mus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ke detailed pla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llow their processes and pla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ather and use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nage qualit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consistently do this, they must be rationally manag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your teams to perform at their bes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quire that the teams gather and use their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only team-level data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gularly review the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ward quality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odule Overview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17720" y="1707840"/>
            <a:ext cx="7410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naging self-directed team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ational manage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t challenging goa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et the fa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facts and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nticipate and address proble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cess disciplin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warding quality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06560" y="890280"/>
            <a:ext cx="780408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anaging Self-directed Team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1917720" y="5138640"/>
            <a:ext cx="5494320" cy="1293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54080" rIns="102600" tIns="51480" bIns="51480" anchor="ctr">
            <a:no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Team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Member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Skill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2603520" y="3849840"/>
            <a:ext cx="4808520" cy="1293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54080" rIns="102600" tIns="51480" bIns="51480" anchor="ctr">
            <a:no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Team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Building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3032280" y="2563920"/>
            <a:ext cx="4379760" cy="12938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54080" rIns="102600" tIns="51480" bIns="51480" anchor="ctr">
            <a:no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Team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Management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4403880" y="5288040"/>
            <a:ext cx="30225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Process disciplin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Performance measure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Estimating &amp; planning skill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Quality management skill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4489560" y="3986280"/>
            <a:ext cx="28321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Goal setting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Role assignment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Tailored team proces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Detailed balanced plan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5241600" y="2637000"/>
            <a:ext cx="212508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Team communication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Team coordination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Project tracking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Risk analysi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0" name="AutoShape 9"/>
          <p:cNvSpPr/>
          <p:nvPr/>
        </p:nvSpPr>
        <p:spPr>
          <a:xfrm flipH="1" rot="5400000">
            <a:off x="6037920" y="3328920"/>
            <a:ext cx="4098960" cy="857160"/>
          </a:xfrm>
          <a:prstGeom prst="rightArrow">
            <a:avLst>
              <a:gd name="adj1" fmla="val 54389"/>
              <a:gd name="adj2" fmla="val 40293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i="1" lang="en-US" sz="1800" spc="-1" strike="noStrike">
                <a:solidFill>
                  <a:srgbClr val="39536b"/>
                </a:solidFill>
                <a:latin typeface="Arial Black"/>
              </a:rPr>
              <a:t>Team Performanc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 rot="16200000">
            <a:off x="1181520" y="5588640"/>
            <a:ext cx="71028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200" spc="-1" strike="noStrike">
                <a:solidFill>
                  <a:srgbClr val="39536b"/>
                </a:solidFill>
                <a:latin typeface="Arial Black"/>
              </a:rPr>
              <a:t>PSP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2" name="Text Box 11"/>
          <p:cNvSpPr/>
          <p:nvPr/>
        </p:nvSpPr>
        <p:spPr>
          <a:xfrm rot="16200000">
            <a:off x="1959840" y="3452040"/>
            <a:ext cx="69660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200" spc="-1" strike="noStrike">
                <a:solidFill>
                  <a:srgbClr val="39536b"/>
                </a:solidFill>
                <a:latin typeface="Arial Black"/>
              </a:rPr>
              <a:t>TSP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3" name="Rectangle 12"/>
          <p:cNvSpPr/>
          <p:nvPr/>
        </p:nvSpPr>
        <p:spPr>
          <a:xfrm>
            <a:off x="3546360" y="1708200"/>
            <a:ext cx="3865680" cy="8794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54080" rIns="102600" tIns="51480" bIns="51480" anchor="ctr">
            <a:no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Senior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Management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5641200" y="1708200"/>
            <a:ext cx="1721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Team support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Team disciplin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Program visibil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931680" y="1692360"/>
            <a:ext cx="205920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Capitalizing on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team potential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is management’s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responsibility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01440" y="692280"/>
            <a:ext cx="8226360" cy="8553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anagement Direct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28800" y="1655640"/>
            <a:ext cx="7640640" cy="459576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1840" bIns="5184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ams are very responsiv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2200" indent="-2077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y will try to do whatever you wa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2200" indent="-2077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ithout guidance, they will do what they think you wa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2200" indent="-2077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at may not be what you really wa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you stress schedule above everything else, teams will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2200" indent="-2077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rive to meet aggressive dat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2200" indent="-2077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hortchange the proc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2200" indent="-2077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ake more time than following the proc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oing the job the right way is, in the end, always the fastest and cheapest wa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Rational Managemen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17720" y="1707840"/>
            <a:ext cx="7410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ational management is the most effective way to manage TSP team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ational management has four elemen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tting aggressive but realistic goa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etting the fa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ing facts and data to make decis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onitoring team performance to anticipate and address proble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Aggressive but Realistic Goal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28520" y="1722600"/>
            <a:ext cx="7305480" cy="46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veryone knows what an aggressive goal is, but what is a realistic goal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realistic goal is one that the team members see how to mee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y have made a plan to meet the goal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y are willing to commit to this pla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ensure that the goal is realistic, probe the team’s plan to ensure that it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s detailed and complet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s based on historical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siders the key risk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Negotiating Realistic Schedul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17720" y="1707840"/>
            <a:ext cx="7410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 teams say that they cannot meet a date, that date is  unrealistic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you insist that the team meet that date, there is little if any chance that the team will do so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rrational management has several consequenc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ams cannot make believable pla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y do not believe the plans that they hav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y are not motivated to meet management’s dat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ir jobs take longer than they would with a realistic pla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Getting the Fact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17720" y="1707840"/>
            <a:ext cx="7410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SP provides many kinds of dat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full assessment of project status must include schedule and quality dat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ith the task hour and earned value (EV) measures, teams can precisely determine schedule statu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y can also estimate when they will likely finish the job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14:51:33Z</dcterms:created>
  <dc:creator>Daniel Burton</dc:creator>
  <dc:description/>
  <cp:keywords/>
  <dc:language>en-US</dc:language>
  <cp:lastModifiedBy>wrn_loc_adm</cp:lastModifiedBy>
  <cp:lastPrinted>2001-07-23T13:49:01Z</cp:lastPrinted>
  <dcterms:modified xsi:type="dcterms:W3CDTF">2018-09-06T00:16:21Z</dcterms:modified>
  <cp:revision>14</cp:revision>
  <dc:subject>24 July 2001 / 3:30pm</dc:subject>
  <dc:title>PowerPoint Presentation</dc:title>
</cp:coreProperties>
</file>